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E256-7EB0-4CC5-9883-821C6D39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740D-6908-4B54-A96F-9FCAECE06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BDDE-C1F1-483D-B3F5-D78E6652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iteracy in the Social Sci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ctober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udent knowledge needed to access tex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ing immigration laws requires knowledge o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igration 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ld ge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al the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al stu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structing knowledge through using …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genres (narrative, expository, poetics, mus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ymbol systems (print, graphics, tab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emiotic tools (image, sound, perform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je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importance of discussion around text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achievement in comprehension and critical thinking improves when there is classroom discussion around a 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some evidence that students transfer their comprehension and learning abilities to new texts and new contex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rphy, Wilkinson &amp; Soter, 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hallenges with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eachers have a deep understanding of the knowledge producing practices of their disciplin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some students resistant to subject specific literac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role of new media in subject specific literac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school structures need to change to enable teachers to support students to navigate subject specific literac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je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velop an understanding of subject specific literacy in the 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model a process for sharing subject specific literacy with teachers and middle leaders in the 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y is literacy important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untry’s literacy scores rising by 1% relative to the international average is associated with an eventual 2.5% relative rise in labour productivity and a 1.5% rise in GDP per h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ombe &amp; Tremblay,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subject specific literacy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early reading skills do not automatically develop into more complex skills that enable students to deal with the specialised and sophisticated reading in specific learning ar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ised literacy instruction needed for all students (not just those who score below the mean in literacy measur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nahan &amp; Shanahan (2008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ellectual values of a disciplin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t reading processes are related to the intellectual values of a learning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ans emphasise paying attention to the author or source before reading a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ematicians stress the importance of functional words such as “the” and “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hat are the intellectual values of your subject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learning area has specific literacy demands involv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ist and academic vocabul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s of tex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ys of thinking, evaluating and respo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of communica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tions, styles, stru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aspects of literacy in each learning area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rategy instruc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trategies are appropriate in subject speciifc literacy but they are actualised differ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The approach to vocabulary is different in English and Ge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o students understand the differences in literacy across the learning areas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need to know how literacy requirements are different from learning area to learning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an essay in English values personal response whereas an essay in Gepgraphy values …, an essay in History values …, an essay in Accounting value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importance of critiquing the tex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ivilised Community: A history of Social Security in NZ 1898-199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by Margaret McCl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ed in 199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ded by Dept of Internal Affa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8:04:35Z</dcterms:created>
  <dc:creator>Studio 4</dc:creator>
  <dc:description/>
  <dc:language>en-US</dc:language>
  <cp:lastModifiedBy>Irene Andersen</cp:lastModifiedBy>
  <dcterms:modified xsi:type="dcterms:W3CDTF">2012-10-29T19:02:06Z</dcterms:modified>
  <cp:revision>30</cp:revision>
  <dc:subject/>
  <dc:title>PowerPoint Presentation</dc:title>
</cp:coreProperties>
</file>